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7088400" cy="9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4016520" y="-36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200240" y="703080"/>
            <a:ext cx="4687920" cy="351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320" rIns="9432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44280" y="4451400"/>
            <a:ext cx="5197320" cy="421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890388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4016520" y="890388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E2671F9-30C0-4642-AA68-4D7DB434D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4E04A73-67E2-4D65-8BC3-914417335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57320" y="4371480"/>
            <a:ext cx="677376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673B39F-70F6-487D-8108-BFE8D9F0F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-360" y="4292280"/>
            <a:ext cx="7086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4AF7767-1DB6-497D-87C0-5F4D030F1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-360" y="4292280"/>
            <a:ext cx="7086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096B0E8-9E46-4F14-8946-B4E7B9132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-360" y="4292280"/>
            <a:ext cx="7086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7B99E89-89D6-4351-B726-010CA40AA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-360" y="4292280"/>
            <a:ext cx="7086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04B5CD1-18E3-4616-82DD-24F163679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-360" y="4292280"/>
            <a:ext cx="7086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13DE2C4-28BC-4162-9DCF-19321A656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-360" y="4292280"/>
            <a:ext cx="7086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AF39C46-D819-46CE-9357-75D458523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-360" y="4292280"/>
            <a:ext cx="7086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D587-0991-4A55-9B6A-4FD2B8B4F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452F-4D31-4BDE-ADE4-EA48F122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3E4D-C63E-421B-A851-9F7EF7F34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3193-EE98-40DA-A50A-EB75EF098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8A90-1EE0-4137-8625-19E39BB69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6D92-635F-4F6B-BB95-2B3539EA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B113-9C34-4DB6-B84F-21CA7418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8F76-6580-47CA-B073-575ED8FA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2F8E-EF5A-4CDE-93DA-CF7C4673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6F63-9EFB-4B9E-887B-5B8E7D89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CDB9-4BD8-44F6-84A6-453E1266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BBF5-3A13-43E2-A423-D4C1D70F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F7D0-B759-4079-8227-C64EE3CB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FEC1-8500-4CDE-AFBA-414FE2E4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6941-4C90-4216-8396-342E6645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62CF-1E61-4EC2-AE6B-1DD42C560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93F2-E3F6-429F-A327-6D12E1941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DB19B-2A26-4A78-AF4A-532FF2707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519B5-8306-4466-83F9-17E6B990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97D36-2C37-447F-B490-A70608A2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5283B-8224-49BA-BEF9-E9DF2DA8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27787-F587-49BD-9B99-667E2603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AB28-11BA-45E8-9E97-910507B1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DD47E-FACB-450F-AB44-8D4C2110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9192B-FD55-4C3B-B494-79F76BC6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19A6B-9429-4858-8D70-5D5C37AB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6F244-4DE0-4000-A139-77D928C2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4C2B4-0862-4918-88B3-4AAFC3C2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8B26F-3C4B-4D3C-AA6A-316717508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ACC24-95BA-4FC4-BB49-EF11B4618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61FC1-368A-418F-93DA-C71AABF3A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5EE28-9289-43D3-8DAB-FEFD5120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6769F-F5D3-49AF-86ED-AC3AA597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1A68-AD8D-4BF1-88DA-696593C6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B5ACE-DB69-4C92-964A-A3693864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F1C51-7049-499C-A6F2-C6ED8DDF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6D94B-A0CA-4EEC-9DF0-6262C4C1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1764E-7BA0-4C9F-A7D9-66EA321B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E7FAE-AB1D-40EC-B1B3-55E396DC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7DE48-0914-47ED-B0C8-915232E1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FA344-F289-42D4-A375-457E7F32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D60F5-76A4-49B0-A306-D122926CA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0F32C-CF09-402C-BCAE-BF00D6C31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E61E-6CE1-4425-9260-E6720222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11B3-33A2-4A62-A3DE-80D08635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A062-EBDD-43B6-9C29-A445AACC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594E-C4D3-48BE-B1D9-73B0970D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8E79-F0AD-456C-AC18-7304071B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AD0A-0970-4562-8520-A9134A25F997}" type="slidenum">
              <a:rPr b="0" lang="en-US" sz="1200" spc="-1" strike="noStrike">
                <a:solidFill>
                  <a:srgbClr val="045c75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4A94-6CEB-48C6-961A-9CC089ED1484}" type="slidenum">
              <a:rPr b="0" lang="en-US" sz="1200" spc="-1" strike="noStrike">
                <a:solidFill>
                  <a:srgbClr val="d1eaee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F9B5-4087-47FE-BBFB-6DD3020B2DBA}" type="slidenum">
              <a:rPr b="0" lang="en-US" sz="1200" spc="-1" strike="noStrike">
                <a:solidFill>
                  <a:srgbClr val="d1eaee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84C0-FE10-490D-9D55-C07D632DD373}" type="slidenum">
              <a:rPr b="0" lang="en-US" sz="1200" spc="-1" strike="noStrike">
                <a:solidFill>
                  <a:srgbClr val="045c75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id-Term Presentation</a:t>
            </a:r>
            <a:br>
              <a:rPr sz="4900"/>
            </a:br>
            <a:r>
              <a:rPr b="1" lang="en-US" sz="55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How assisted reading</a:t>
            </a:r>
            <a:br>
              <a:rPr sz="5500"/>
            </a:br>
            <a:r>
              <a:rPr b="1" lang="en-US" sz="55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helps improve </a:t>
            </a:r>
            <a:br>
              <a:rPr sz="5500"/>
            </a:br>
            <a:r>
              <a:rPr b="1" lang="en-US" sz="55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reading fluency and comprehension </a:t>
            </a:r>
            <a:br>
              <a:rPr sz="4900"/>
            </a:b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" y="4648320"/>
            <a:ext cx="777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sana Samoylov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SE 7201T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l 2016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inar in Applied Theory and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I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4" name="Picture 6" descr="Image result for assisted reading helps improve reading fluency and comprehension"/>
          <p:cNvPicPr/>
          <p:nvPr/>
        </p:nvPicPr>
        <p:blipFill>
          <a:blip r:embed="rId1"/>
          <a:stretch/>
        </p:blipFill>
        <p:spPr>
          <a:xfrm>
            <a:off x="5359320" y="3886200"/>
            <a:ext cx="3556080" cy="2666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4"/>
          <p:cNvSpPr/>
          <p:nvPr/>
        </p:nvSpPr>
        <p:spPr>
          <a:xfrm>
            <a:off x="5715000" y="57913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Table of Contents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7524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                                 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ment of the Problem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 of research         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thesis                      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                         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of the Literature 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7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s                      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8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5715000" y="57913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Statement of Proble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nstantia"/>
              </a:rPr>
              <a:t>Fluency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is one of the defining characteristics of good readers and a lack of fluency is a common characteristic of poor readers as well as a reliable predictor of reading comprehension problem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tudents of different ages and reading levels, especially English Language Learners (ELL) and students with learning disabilities have problems with fluency and reading comprehension of different texts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5715000" y="57913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Purpose of research: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85840" y="1676160"/>
            <a:ext cx="4876920" cy="35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By conducting this research,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I want to measure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how the assisted reading approach affects fluency and reading comprehens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of  beginner readers or English Language Learner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3" descr="Image result for assisted reading"/>
          <p:cNvPicPr/>
          <p:nvPr/>
        </p:nvPicPr>
        <p:blipFill>
          <a:blip r:embed="rId1"/>
          <a:srcRect l="6159" t="0" r="15829" b="-1616"/>
          <a:stretch/>
        </p:blipFill>
        <p:spPr>
          <a:xfrm>
            <a:off x="598320" y="1371600"/>
            <a:ext cx="2982960" cy="2590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15" name="Picture 5" descr="Image result for assisted reading"/>
          <p:cNvPicPr/>
          <p:nvPr/>
        </p:nvPicPr>
        <p:blipFill>
          <a:blip r:embed="rId2"/>
          <a:srcRect l="0" t="11430" r="7860" b="0"/>
          <a:stretch/>
        </p:blipFill>
        <p:spPr>
          <a:xfrm>
            <a:off x="380880" y="4038480"/>
            <a:ext cx="3353040" cy="2417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5715000" y="57913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Hypothesis: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294920"/>
            <a:ext cx="8534160" cy="474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ssisted instruction given in form of the repeated out-loud reading or audio-assisted reading will improve both fluency and reading comprehension of a group of ELL students at the public schoo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u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ree times a week, for 35 minutes each session, over two month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o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n a mainstream classroom, at the local showcase public school in Brookly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udents (6 boys and 4 girls), age 9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rade, English Language Learners, no IEP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4"/>
          <p:cNvSpPr/>
          <p:nvPr/>
        </p:nvSpPr>
        <p:spPr>
          <a:xfrm>
            <a:off x="5715000" y="57913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Variables: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0880" y="1447560"/>
            <a:ext cx="83822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dependent Vari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sted instruction given in forms of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peated out-loud read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udio-assisted reading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pendent Variab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effects of the intervention on reading fluency and comprehension that will be measured in form of the series of test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-te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measure initial abilities of student to read fluently and comprehend text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-te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measure and modify the instruction if necessary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-te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measure students' fluency and reading comprehension after interven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5715000" y="57913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Review of Literature: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190760" y="1066680"/>
            <a:ext cx="4800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n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some limitations in this research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ther variables to consider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 characteristics of students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rning and physical disabilities of students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mount of time students spend at home practicing reading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interventions, etc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f the studies that suggests to conduct more research before making any generalization is called “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ing for generalization of oral reading fluency using computer-assisted instruction and changing fluency criteria” b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s, Cartledge, Gibson and Robinson-Ervin, 2016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304920" y="1086120"/>
            <a:ext cx="3886200" cy="50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Calibri"/>
              </a:rPr>
              <a:t>Pro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There are multiple studies that were conducted previously show: 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assisted reading together with repetition can improve not only fluency, but also reading comprehension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during the assisted reading sessions, a student works on a text, using visual as well as audio senses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Calibri"/>
              </a:rPr>
              <a:t>One of the studies that supports my research was done by Rasinski and Young  and called “Assisted reading - a bridge from fluency to comprehension”, 2014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4"/>
          <p:cNvSpPr/>
          <p:nvPr/>
        </p:nvSpPr>
        <p:spPr>
          <a:xfrm>
            <a:off x="5715000" y="57913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152280" y="491040"/>
            <a:ext cx="8763120" cy="60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                </a:t>
            </a:r>
            <a:r>
              <a:rPr b="1" lang="en-US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References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rton-Arwood, S. M., Wehby, J. H., &amp; Falk, K. B. (2005). Reading instruction for elementary-age   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udents with emotional and behavioral disorders: academic and behavioral outcomes. 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xceptional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ildren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 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2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1), 7-27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Dowhower, S. L. (1987). Effects of repeated reading on second-grade transitional readers’ fluency and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          </a:t>
            </a: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comprehension. </a:t>
            </a:r>
            <a:r>
              <a:rPr b="0" i="1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Reading Research Quarterly</a:t>
            </a: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, 389-406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steves, K. J., &amp; Whitten, E. (2011). Assisted reading with digital audio books for students with reading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sabilities. 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ding Horizo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 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51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1), 21-40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Hapstak, J., &amp; Tracey, D. H. (2007). Effects of assisted-repeated reading on students of varying reading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bility: A single-subject experimental research study. 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ding Horizo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 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47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4), 315-334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Hudson, R. F., Lane, H. B., &amp; Pullen, P. C. (2005). Reading fluency assessment and instruction: What,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          </a:t>
            </a: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why, and how?. </a:t>
            </a:r>
            <a:r>
              <a:rPr b="0" i="1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The Reading Teacher</a:t>
            </a: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, </a:t>
            </a:r>
            <a:r>
              <a:rPr b="0" i="1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58</a:t>
            </a: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(8), 702-714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Keyes, S., Cartledge, G., Gibson Jr., L., &amp; Robinson-Ervin, P. (2016). Programming for generalization of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al reading fluency using computer-assisted instruction and changing fluency criteria. 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ducation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 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&amp; Treatment of Children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 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9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2), 141-172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asinski, T., &amp; Young, C. (2014). Assisted reading-a bridge from fluency to comprehension. 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ew 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 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gland Reading Association Journal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 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50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1), 1-4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evens, R. J. (2006). Developing reading fluency: What does the research say?. 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talyst For 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 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ange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 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4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1), 37-44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aguchi, E. t., Melhem, L. l., &amp; Kawaguchi, T. a. (2016). Assisted reading: a flexible approach to L2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ding fluency building. 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ding Matrix: An International Online Journal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 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6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1), 106-118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Therrien, W. J. (2004). Fluency and comprehension gains as a result of repeated reading a meta-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           </a:t>
            </a: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analysis. </a:t>
            </a:r>
            <a:r>
              <a:rPr b="0" i="1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Remedial and special education</a:t>
            </a: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, </a:t>
            </a:r>
            <a:r>
              <a:rPr b="0" i="1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25</a:t>
            </a: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Calibri"/>
              </a:rPr>
              <a:t>(4), 252-261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6T23:17:37Z</dcterms:created>
  <dc:creator>Molloy</dc:creator>
  <dc:description/>
  <dc:language>en-US</dc:language>
  <cp:lastModifiedBy>Windows User</cp:lastModifiedBy>
  <dcterms:modified xsi:type="dcterms:W3CDTF">2016-10-18T19:20:59Z</dcterms:modified>
  <cp:revision>103</cp:revision>
  <dc:subject/>
  <dc:title>Gender Paradigms &amp; Theories   What’s in the R2 ??</dc:title>
</cp:coreProperties>
</file>